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E03-F794-4C7A-B3A5-4A78AEA3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A37-0986-4547-BE9F-C23E94DC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3AD-F9C8-419A-A91A-2C9FE2A7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5B9-0B76-43F6-A433-DA8C4602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F7D-9A42-4FF6-8EDE-809A5070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877-4D98-46F3-BDD7-E5E27A8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B20-F2A0-4588-BAB7-DE6C457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AEB-948A-4121-8AA9-4E68729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E5C-9B0D-4F01-8865-3AD4A5D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537-E128-47E0-B261-8359F7A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EC5-4186-4E2D-80EE-1E55AD9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7BC-EFDE-433C-867D-AC7FE87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48CD-F74A-4D09-A9BA-176A0A52535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55640" y="1962000"/>
            <a:ext cx="79200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3366"/>
                </a:solidFill>
                <a:latin typeface="Arial"/>
              </a:rPr>
              <a:t>Κρατικές Ενισχύσεις και Ανάπτυξ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«Εξωστρέφεια και Ελληνικές ΜΜ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Σχέση της με προγράμματα κρατικών ενισχύσεων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60160" y="4550040"/>
            <a:ext cx="31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Κυριάκος Λουφάκ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Πρόεδρος ΣΕΒ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56400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18 Σεπτεμβρίο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20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120-D328-406D-8DC4-7B9F9F6A0F5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eve_logo_gr"/>
          <p:cNvPicPr/>
          <p:nvPr/>
        </p:nvPicPr>
        <p:blipFill>
          <a:blip r:embed="rId1"/>
          <a:stretch/>
        </p:blipFill>
        <p:spPr>
          <a:xfrm>
            <a:off x="2843280" y="33480"/>
            <a:ext cx="3744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539640" y="3284640"/>
            <a:ext cx="817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</a:rPr>
              <a:t>Σας ευχαριστώ πολύ για την προσοχή σ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E45-3651-4F15-9BB7-F4CD78906AF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seve_logo_gr"/>
          <p:cNvPicPr/>
          <p:nvPr/>
        </p:nvPicPr>
        <p:blipFill>
          <a:blip r:embed="rId1"/>
          <a:stretch/>
        </p:blipFill>
        <p:spPr>
          <a:xfrm>
            <a:off x="2268360" y="549360"/>
            <a:ext cx="446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9640" y="1197000"/>
            <a:ext cx="828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3366"/>
                </a:solidFill>
                <a:latin typeface="Arial"/>
                <a:ea typeface="Arial"/>
              </a:rPr>
              <a:t>Υφιστάμενη Κατάστα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0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ξαγωγές: Το «κλειδί» για την αναθέρμανση της ελληνικής οικονομ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1930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Ορθογώνιο 1"/>
          <p:cNvSpPr/>
          <p:nvPr/>
        </p:nvSpPr>
        <p:spPr>
          <a:xfrm>
            <a:off x="324000" y="1366920"/>
            <a:ext cx="806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Στην Ελλάδα, οι Μικρομεσαίες επιχειρήσεις (ΜμΕ) συνεισφέρουν το 35% των εξαγωγών, έναντι 24% για τις ευρωπαϊκές Μμ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Y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πάρχει ένας μεγάλος όγκος σχολάζουσας παραγωγικής δυναμικότητας στις ελληνικές επιχειρή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Το σημαντικότερο πρόβλημα σήμερα των επιχειρήσεων –εξαγωγικών και μη- είναι αυτό της έλλειψης ρευστότητας και των κεφαλαίων κίνησης καθώς και το υψηλό κόστος χρήματο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Ζητούμενο είναι να υπάρξει ενίσχυση των κεφαλαίων κίνησης των επιχειρήσεων μέσω εναλλακτικών πηγών, διάφορων του συμβατικού τραπεζικού δανεισμο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220680"/>
            <a:ext cx="82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Υφιστάμενη Κατάστα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4" name="Ορθογώνιο 1"/>
          <p:cNvSpPr/>
          <p:nvPr/>
        </p:nvSpPr>
        <p:spPr>
          <a:xfrm>
            <a:off x="25092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Παράγοντες που πρέπει να ληφθούν υπόψη σχετικά με τις επενδυτικές ενισχύ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Ορθογώνιο 2"/>
          <p:cNvSpPr/>
          <p:nvPr/>
        </p:nvSpPr>
        <p:spPr>
          <a:xfrm>
            <a:off x="250920" y="1989000"/>
            <a:ext cx="8642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Αναγκαία συνθήκη η κεφαλαιακή επάρκεια και η πρόσβαση σε πηγές χρηματοδότησης από την πλευρά των επιχειρήσε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Οι επενδύσεις στη μεταποίηση είναι μικρότερες απ’ ότι θα έπρεπε να τους αναλογεί στις συνολικές επενδύ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40404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O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ι επιχειρηματικές ενισχύσεις δεν μπορούν να μην έχουν και κλαδική στόχευσ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57" name="Ορθογώνιο 1"/>
          <p:cNvSpPr/>
          <p:nvPr/>
        </p:nvSpPr>
        <p:spPr>
          <a:xfrm>
            <a:off x="289080" y="17316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Τι πρέπει να ισχύσει στις ενισχύσεις της περιόδο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014-20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Ορθογώνιο 2"/>
          <p:cNvSpPr/>
          <p:nvPr/>
        </p:nvSpPr>
        <p:spPr>
          <a:xfrm>
            <a:off x="395280" y="1076400"/>
            <a:ext cx="8512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H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ενίσχυση στις επιχειρήσεις πρέπει να έχει ως κεντρικό στόχο την αύξηση της βιομηχανικής παραγωγή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Η χωρική διάσταση της αποβιομηχάνισης πρέπει να ληφθεί υπόψ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Να δοθεί ιδιαίτερη προσοχή στις πραγματικές μικρομεσαίες επιχειρήσεις (10-5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Είναι απαραίτητη η δημιουργία περισσότερων προγραμμάτων με στόχευση στη διεθνοποίησή των επιχειρήσεων - Να σχεδιαστούν προγράμματα «ομπρέλα», τα οποία θα παρέχουν εργαλεία ολοκληρωμένης υποστήριξης για πρόσβαση σε νέες αγορές στις επιχειρήσει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Η εξωτερική ζήτηση συμπεριφέρεται καλύτερα, και μάλιστα οι χώρες εκτός Ευρωζών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Θα πρέπει να επιδιωχθεί διασπορά κινδύνου, μια επαναστόχευση και διαφοροποίηση των εξαγωγικών στόχων, σε αγορές πιο ώριμε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Σε ετήσια βάση να υπάρχει στρατηγική κλαδική ανάλυση των εξαγωγών αλλά και σε μακροπρόθεσμο επίπεδ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Είναι αναγκαία η ενσωμάτωση της έρευνας, της τεχνολογίας και της καινοτομίας στην παραγωγική διαδικασία ως παράγοντας ανάπτυξ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0" name="Ορθογώνιο 1"/>
          <p:cNvSpPr/>
          <p:nvPr/>
        </p:nvSpPr>
        <p:spPr>
          <a:xfrm>
            <a:off x="324000" y="189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Θέσεις/ Προτάσεις ΣΕΒΕ για το νέο ΕΠΑΝΕ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Ορθογώνιο 2"/>
          <p:cNvSpPr/>
          <p:nvPr/>
        </p:nvSpPr>
        <p:spPr>
          <a:xfrm>
            <a:off x="324000" y="995400"/>
            <a:ext cx="8351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 Ανάγκη για ξεκάθαρη συνολική πολιτική για τις ΜΜΕ η οποία αποτυπώνεται μέσω των 9 κλάδων προτεραιότητας, με παρεμβάσεις που θα στοχεύουν στην κερδοφορία και θα έχουν ως προτεραιότητα την ενίσχυση των εξαγωγ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2. Απλοποίηση προγραμμάτων, με καταλληλότερη διαδικασία τύπου «καλαθιού ενισχύσεων», χρονικά «ανοιχτή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3. Επικέντρωση σε εξωστρεφείς επιχειρήσεις με ένταξη των παραγωγικών φορέων στο σχεδιασμό/ υλοποίηση των δράσεων και δυνατότητα για κατά αντικείμενο ανάθεση μερών του προγράμματος σε εξειδικευμένους φορεί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4. Επικέντρωση στη μεταποίηση και την παραγωγ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5. Ανάγκη χρηματοδότησης δράσεων που απαιτούν κεφάλαιο κίνησης και όχι μόνο επένδυσ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6. Ουσιαστική εφαρμογή της εταιρικής σχέσης με την ενεργό συμμετοχή αξιόπιστων φορέων εξωστρέφειας στο στάδιο εξειδίκευσης και υλοποίησης του προγράμματ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7. Επιλογή του ΕΦΕΠΑΕ ως φορέα διαχείρισης του προγράμματος, καθώς διαθέτει την απαραίτητη εμπειρία και τεχνογνωσία, τις αναγκαίες υλικοτεχνικές υποδομές και τους ανθρώπινους πόρους υψηλής εμπειρίας στη διαχείριση ενισχύσε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3" name="Ορθογώνιο 1"/>
          <p:cNvSpPr/>
          <p:nvPr/>
        </p:nvSpPr>
        <p:spPr>
          <a:xfrm>
            <a:off x="108000" y="1573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Ορθογώνιο 2"/>
          <p:cNvSpPr/>
          <p:nvPr/>
        </p:nvSpPr>
        <p:spPr>
          <a:xfrm>
            <a:off x="395280" y="1268280"/>
            <a:ext cx="799308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</a:rPr>
              <a:t>1. Ενέργειες για την άμεση στήριξη επιχειρ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1.1 Μετατροπή του Προγράμματος «Εξωστρέφεια-Ανταγωνιστικότητα» σε ανοιχτό πρόγραμμ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1.2 Πρόγραμμα τύπου «Εξωστρέφεια-Ανταγωνιστικότητα» για τα αγροτικά προϊόντα Α’ μεταποίησης (ΥΠΑΑ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1.3 Επανασχεδιασμός του προγράμματος «Εξωστρέφεια-Ανταγωνιστικότητα» με έμφαση στην  υποστήριξη των δυνητικά εξαγωγικών επιχειρήσεων που θέλουν να διεθνοποιηθού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6" name="Ορθογώνιο 1"/>
          <p:cNvSpPr/>
          <p:nvPr/>
        </p:nvSpPr>
        <p:spPr>
          <a:xfrm>
            <a:off x="108000" y="1573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Ορθογώνιο 2"/>
          <p:cNvSpPr/>
          <p:nvPr/>
        </p:nvSpPr>
        <p:spPr>
          <a:xfrm>
            <a:off x="395280" y="992160"/>
            <a:ext cx="792180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</a:rPr>
              <a:t>2. Δράση Προχρηματοδότησης Εξαγωγικών Επιχειρ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1. Προχρηματοδότηση Εξαγωγικών επιχειρήσεων με Εγγυοδοσία 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του Ελληνικού Δημοσίο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"/>
              </a:rPr>
              <a:t>Στόχος της δράσης είναι η παροχή προς τις Εξαγωγικές επιχειρήσεις των απαραίτητων κεφαλαίων με μειωμένο χρηματοοικονομικό κόστος λόγω παροχής εγγυοδοσίας από το Ελληνικό Δημόσιο για σκοπούς όπως αγορά α’ υλών από εσωτερικό/ εξωτερικό, στήριξη παραγωγικής διαδικασί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2 Χρηματοδότηση εφοδιαστικής αλυσίδας με Εγγυοδοσία του 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Ελληνικού Δημοσί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"/>
              </a:rPr>
              <a:t>Η δράση θα προσφέρεται στις συμμετέχουσες Τράπεζες για να στηρίξει τους Έλληνες εξαγωγείς και τους προμηθευτές τους, χρηματοδοτώντας τις επιχειρηματικές απαιτήσει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3 Προχρηματοδότηση Επενδυτικών Σχεδίων Επιχειρήσε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4 Ταμείο Υποστήριξης Εξαγωγικών Επιχειρήσεων (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Export Fund</a:t>
            </a: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Arial"/>
              </a:rPr>
              <a:t>2.5 Μικροπιστώσεις επιχειρήσε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eve_logo_gr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92160"/>
          </a:xfrm>
          <a:prstGeom prst="rect">
            <a:avLst/>
          </a:prstGeom>
          <a:ln w="0">
            <a:noFill/>
          </a:ln>
        </p:spPr>
      </p:pic>
      <p:sp>
        <p:nvSpPr>
          <p:cNvPr id="69" name="Ορθογώνιο 1"/>
          <p:cNvSpPr/>
          <p:nvPr/>
        </p:nvSpPr>
        <p:spPr>
          <a:xfrm>
            <a:off x="250920" y="1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Προτεινόμενες Δράσεις για το νέο ΕΠΑΝΕΚ από τον ΣΕΒ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Ορθογώνιο 2"/>
          <p:cNvSpPr/>
          <p:nvPr/>
        </p:nvSpPr>
        <p:spPr>
          <a:xfrm>
            <a:off x="324000" y="979560"/>
            <a:ext cx="85690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3. Ολοκληρωμένες υπηρεσίες για στήριξη εξαγωγ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1 Παροχή πληροφοριών για κλάδους &amp; αγορ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2 Προετοιμασία δυνητικών πελατολογί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3 Εκπαίδευσ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ort C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4 Συναντήσεις συμβουλευτικής εξαγωγώ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5 Εκπόνηση Επιχειρησιακών Σχεδίων Εξαγωγ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6 Πρόγραμμα ενίσχυσης φορέων για εκπόνηση επιχειρηματικών σχεδίων εξωστρέφει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4. ΙΤΜ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WOLDWIDE CONCEPT</a:t>
            </a: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: Πιστοποιημένη Κατάρτιση στις Εξαγωγές - Σήμα Κατατεθέν στην Ε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2060"/>
                </a:solidFill>
                <a:latin typeface="Arial"/>
              </a:rPr>
              <a:t>5. Βελτίωση των υποδομών που σχετίζονται με τις εξαγωγ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9:42:01Z</dcterms:created>
  <dc:creator>ΣΕΒΕ</dc:creator>
  <dc:description/>
  <dc:language>en-US</dc:language>
  <cp:lastModifiedBy>Marinos Tsiagkarakis</cp:lastModifiedBy>
  <dcterms:modified xsi:type="dcterms:W3CDTF">2014-09-17T14:15:07Z</dcterms:modified>
  <cp:revision>252</cp:revision>
  <dc:subject/>
  <dc:title>Slide 1</dc:title>
</cp:coreProperties>
</file>