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E54-E09D-40EF-8963-4548D9DC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987-175B-4647-BA4A-D3C6C360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722-22F2-42A4-B94E-EE45ED39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9B2-7998-49A7-AEBD-F13192ED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DD6-A8B4-4601-8C0F-0C7A3D1C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2E3-3C22-4F8D-8A06-430CE185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A72C-3CCE-4A3A-A9B6-5DB771A1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203-2D04-4FDD-975C-8BB8B1F3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413-46FC-4949-8FCA-F4049EA1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D75-2CC5-44BE-A299-15F5E035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A82-966A-40CD-A51B-C844466C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9DB-D022-4DEB-95EE-64B73D70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2F43-67B6-4DE0-A47F-67A5957CBA7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55640" y="1962000"/>
            <a:ext cx="792000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003366"/>
                </a:solidFill>
                <a:latin typeface="Arial"/>
              </a:rPr>
              <a:t>Κρατικές Ενισχύσεις και Ανάπτυξ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3366"/>
                </a:solidFill>
                <a:latin typeface="Arial"/>
              </a:rPr>
              <a:t>«Εξωστρέφεια και Ελληνικές ΜΜ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3366"/>
                </a:solidFill>
                <a:latin typeface="Arial"/>
              </a:rPr>
              <a:t>Σχέση της με προγράμματα κρατικών ενισχύσεων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260160" y="4550040"/>
            <a:ext cx="312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Arial"/>
              </a:rPr>
              <a:t>Κυριάκος Λουφάκ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Arial"/>
              </a:rPr>
              <a:t>Πρόεδρος ΣΕΒ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564000" y="5661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18 Σεπτεμβρίου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201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D73C-48A4-4B3C-A222-BF1FD5A8957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eve_logo_gr"/>
          <p:cNvPicPr/>
          <p:nvPr/>
        </p:nvPicPr>
        <p:blipFill>
          <a:blip r:embed="rId1"/>
          <a:stretch/>
        </p:blipFill>
        <p:spPr>
          <a:xfrm>
            <a:off x="2843280" y="33480"/>
            <a:ext cx="37447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539640" y="3284640"/>
            <a:ext cx="817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3366"/>
                </a:solidFill>
                <a:latin typeface="Arial"/>
              </a:rPr>
              <a:t>Σας ευχαριστώ πολύ για την προσοχή σ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014A-ADB7-462D-B8E8-13B98877F03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seve_logo_gr"/>
          <p:cNvPicPr/>
          <p:nvPr/>
        </p:nvPicPr>
        <p:blipFill>
          <a:blip r:embed="rId1"/>
          <a:stretch/>
        </p:blipFill>
        <p:spPr>
          <a:xfrm>
            <a:off x="2268360" y="549360"/>
            <a:ext cx="4464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539640" y="1197000"/>
            <a:ext cx="828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3366"/>
                </a:solidFill>
                <a:latin typeface="Arial"/>
                <a:ea typeface="Arial"/>
              </a:rPr>
              <a:t>Υφιστάμενη Κατάστασ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0" y="2205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Arial"/>
              </a:rPr>
              <a:t>Εξαγωγές: Το «κλειδί» για την αναθέρμανση της ελληνικής οικονομί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1403280" y="2781360"/>
            <a:ext cx="61930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51" name="Ορθογώνιο 1"/>
          <p:cNvSpPr/>
          <p:nvPr/>
        </p:nvSpPr>
        <p:spPr>
          <a:xfrm>
            <a:off x="324000" y="1366920"/>
            <a:ext cx="8064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Στην Ελλάδα, οι Μικρομεσαίες επιχειρήσεις (ΜμΕ) συνεισφέρουν το 35% των εξαγωγών, έναντι 24% για τις ευρωπαϊκές Μμ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Y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πάρχει ένας μεγάλος όγκος σχολάζουσας παραγωγικής δυναμικότητας στις ελληνικές επιχειρήσει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Το σημαντικότερο πρόβλημα σήμερα των επιχειρήσεων –εξαγωγικών και μη- είναι αυτό της έλλειψης ρευστότητας και των κεφαλαίων κίνησης καθώς και το υψηλό κόστος χρήματο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Ζητούμενο είναι να υπάρξει ενίσχυση των κεφαλαίων κίνησης των επιχειρήσεων μέσω εναλλακτικών πηγών, διάφορων του συμβατικού τραπεζικού δανεισμο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57200" y="220680"/>
            <a:ext cx="82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Arial"/>
              </a:rPr>
              <a:t>Υφιστάμενη Κατάστα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54" name="Ορθογώνιο 1"/>
          <p:cNvSpPr/>
          <p:nvPr/>
        </p:nvSpPr>
        <p:spPr>
          <a:xfrm>
            <a:off x="250920" y="260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Παράγοντες που πρέπει να ληφθούν υπόψη σχετικά με τις επενδυτικές ενισχύσει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Ορθογώνιο 2"/>
          <p:cNvSpPr/>
          <p:nvPr/>
        </p:nvSpPr>
        <p:spPr>
          <a:xfrm>
            <a:off x="250920" y="1989000"/>
            <a:ext cx="864216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Αναγκαία συνθήκη η κεφαλαιακή επάρκεια και η πρόσβαση σε πηγές χρηματοδότησης από την πλευρά των επιχειρήσεω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Οι επενδύσεις στη μεταποίηση είναι μικρότερες απ’ ότι θα έπρεπε να τους αναλογεί στις συνολικές επενδύσει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O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ι επιχειρηματικές ενισχύσεις δεν μπορούν να μην έχουν και κλαδική στόχευσ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57" name="Ορθογώνιο 1"/>
          <p:cNvSpPr/>
          <p:nvPr/>
        </p:nvSpPr>
        <p:spPr>
          <a:xfrm>
            <a:off x="289080" y="173160"/>
            <a:ext cx="63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Τι πρέπει να ισχύσει στις ενισχύσεις της περιόδο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2014-20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Ορθογώνιο 2"/>
          <p:cNvSpPr/>
          <p:nvPr/>
        </p:nvSpPr>
        <p:spPr>
          <a:xfrm>
            <a:off x="395280" y="1076400"/>
            <a:ext cx="85122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H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 ενίσχυση στις επιχειρήσεις πρέπει να έχει ως κεντρικό στόχο την αύξηση της βιομηχανικής παραγωγή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Η χωρική διάσταση της αποβιομηχάνισης πρέπει να ληφθεί υπόψ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Να δοθεί ιδιαίτερη προσοχή στις πραγματικές μικρομεσαίες επιχειρήσεις (10-5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Είναι απαραίτητη η δημιουργία περισσότερων προγραμμάτων με στόχευση στη διεθνοποίησή των επιχειρήσεων - Να σχεδιαστούν προγράμματα «ομπρέλα», τα οποία θα παρέχουν εργαλεία ολοκληρωμένης υποστήριξης για πρόσβαση σε νέες αγορές στις επιχειρήσει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Η εξωτερική ζήτηση συμπεριφέρεται καλύτερα, και μάλιστα οι χώρες εκτός Ευρωζώνη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Θα πρέπει να επιδιωχθεί διασπορά κινδύνου, μια επαναστόχευση και διαφοροποίηση των εξαγωγικών στόχων, σε αγορές πιο ώριμε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Σε ετήσια βάση να υπάρχει στρατηγική κλαδική ανάλυση των εξαγωγών αλλά και σε μακροπρόθεσμο επίπεδ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Είναι αναγκαία η ενσωμάτωση της έρευνας, της τεχνολογίας και της καινοτομίας στην παραγωγική διαδικασία ως παράγοντας ανάπτυξη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60" name="Ορθογώνιο 1"/>
          <p:cNvSpPr/>
          <p:nvPr/>
        </p:nvSpPr>
        <p:spPr>
          <a:xfrm>
            <a:off x="324000" y="18900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Θέσεις/ Προτάσεις ΣΕΒΕ για το νέο ΕΠΑΝΕ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Ορθογώνιο 2"/>
          <p:cNvSpPr/>
          <p:nvPr/>
        </p:nvSpPr>
        <p:spPr>
          <a:xfrm>
            <a:off x="324000" y="995400"/>
            <a:ext cx="83516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1. Ανάγκη για ξεκάθαρη συνολική πολιτική για τις ΜΜΕ η οποία αποτυπώνεται μέσω των 9 κλάδων προτεραιότητας, με παρεμβάσεις που θα στοχεύουν στην κερδοφορία και θα έχουν ως προτεραιότητα την ενίσχυση των εξαγωγώ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2. Απλοποίηση προγραμμάτων, με καταλληλότερη διαδικασία τύπου «καλαθιού ενισχύσεων», χρονικά «ανοιχτή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3. Επικέντρωση σε εξωστρεφείς επιχειρήσεις με ένταξη των παραγωγικών φορέων στο σχεδιασμό/ υλοποίηση των δράσεων και δυνατότητα για κατά αντικείμενο ανάθεση μερών του προγράμματος σε εξειδικευμένους φορεί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4. Επικέντρωση στη μεταποίηση και την παραγωγ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5. Ανάγκη χρηματοδότησης δράσεων που απαιτούν κεφάλαιο κίνησης και όχι μόνο επένδυσ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6. Ουσιαστική εφαρμογή της εταιρικής σχέσης με την ενεργό συμμετοχή αξιόπιστων φορέων εξωστρέφειας στο στάδιο εξειδίκευσης και υλοποίησης του προγράμματο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7. Επιλογή του ΕΦΕΠΑΕ ως φορέα διαχείρισης του προγράμματος, καθώς διαθέτει την απαραίτητη εμπειρία και τεχνογνωσία, τις αναγκαίες υλικοτεχνικές υποδομές και τους ανθρώπινους πόρους υψηλής εμπειρίας στη διαχείριση ενισχύσεω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63" name="Ορθογώνιο 1"/>
          <p:cNvSpPr/>
          <p:nvPr/>
        </p:nvSpPr>
        <p:spPr>
          <a:xfrm>
            <a:off x="108000" y="15732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Προτεινόμενες Δράσεις για το νέο ΕΠΑΝΕΚ από τον ΣΕΒ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Ορθογώνιο 2"/>
          <p:cNvSpPr/>
          <p:nvPr/>
        </p:nvSpPr>
        <p:spPr>
          <a:xfrm>
            <a:off x="395280" y="1268280"/>
            <a:ext cx="7993080" cy="39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</a:rPr>
              <a:t>1. Ενέργειες για την άμεση στήριξη επιχειρήσε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1.1 Μετατροπή του Προγράμματος «Εξωστρέφεια-Ανταγωνιστικότητα» σε ανοιχτό πρόγραμμ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1.2 Πρόγραμμα τύπου «Εξωστρέφεια-Ανταγωνιστικότητα» για τα αγροτικά προϊόντα Α’ μεταποίησης (ΥΠΑΑ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1.3 Επανασχεδιασμός του προγράμματος «Εξωστρέφεια-Ανταγωνιστικότητα» με έμφαση στην  υποστήριξη των δυνητικά εξαγωγικών επιχειρήσεων που θέλουν να διεθνοποιηθού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66" name="Ορθογώνιο 1"/>
          <p:cNvSpPr/>
          <p:nvPr/>
        </p:nvSpPr>
        <p:spPr>
          <a:xfrm>
            <a:off x="108000" y="15732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Προτεινόμενες Δράσεις για το νέο ΕΠΑΝΕΚ από τον ΣΕΒ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Ορθογώνιο 2"/>
          <p:cNvSpPr/>
          <p:nvPr/>
        </p:nvSpPr>
        <p:spPr>
          <a:xfrm>
            <a:off x="395280" y="992160"/>
            <a:ext cx="792180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</a:rPr>
              <a:t>2. Δράση Προχρηματοδότησης Εξαγωγικών Επιχειρήσε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2.1. Προχρηματοδότηση Εξαγωγικών επιχειρήσεων με Εγγυοδοσία 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του Ελληνικού Δημοσίο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Arial"/>
              </a:rPr>
              <a:t>Στόχος της δράσης είναι η παροχή προς τις Εξαγωγικές επιχειρήσεις των απαραίτητων κεφαλαίων με μειωμένο χρηματοοικονομικό κόστος λόγω παροχής εγγυοδοσίας από το Ελληνικό Δημόσιο για σκοπούς όπως αγορά α’ υλών από εσωτερικό/ εξωτερικό, στήριξη παραγωγικής διαδικασία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2.2 Χρηματοδότηση εφοδιαστικής αλυσίδας με Εγγυοδοσία του 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Ελληνικού Δημοσίο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Arial"/>
              </a:rPr>
              <a:t>Η δράση θα προσφέρεται στις συμμετέχουσες Τράπεζες για να στηρίξει τους Έλληνες εξαγωγείς και τους προμηθευτές τους, χρηματοδοτώντας τις επιχειρηματικές απαιτήσει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2.3 Προχρηματοδότηση Επενδυτικών Σχεδίων Επιχειρήσεω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2.4 Ταμείο Υποστήριξης Εξαγωγικών Επιχειρήσεων (</a:t>
            </a:r>
            <a:r>
              <a:rPr b="1" lang="en-GB" sz="1600" spc="-1" strike="noStrike">
                <a:solidFill>
                  <a:srgbClr val="404040"/>
                </a:solidFill>
                <a:latin typeface="Arial"/>
              </a:rPr>
              <a:t>Export Fund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2.5 Μικροπιστώσεις επιχειρήσεω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69" name="Ορθογώνιο 1"/>
          <p:cNvSpPr/>
          <p:nvPr/>
        </p:nvSpPr>
        <p:spPr>
          <a:xfrm>
            <a:off x="250920" y="189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Προτεινόμενες Δράσεις για το νέο ΕΠΑΝΕΚ από τον ΣΕΒ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Ορθογώνιο 2"/>
          <p:cNvSpPr/>
          <p:nvPr/>
        </p:nvSpPr>
        <p:spPr>
          <a:xfrm>
            <a:off x="324000" y="979560"/>
            <a:ext cx="856908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3. Ολοκληρωμένες υπηρεσίες για στήριξη εξαγωγ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1 Παροχή πληροφοριών για κλάδους &amp; αγορέ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2 Προετοιμασία δυνητικών πελατολογίω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3 Εκπαίδευση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port Coa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4 Συναντήσεις συμβουλευτικής εξαγωγώ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5 Εκπόνηση Επιχειρησιακών Σχεδίων Εξαγωγώ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6 Πρόγραμμα ενίσχυσης φορέων για εκπόνηση επιχειρηματικών σχεδίων εξωστρέφεια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2060"/>
                </a:solidFill>
                <a:latin typeface="Arial"/>
              </a:rPr>
              <a:t>4. ΙΤΜ 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WOLDWIDE CONCEPT</a:t>
            </a:r>
            <a:r>
              <a:rPr b="1" lang="el-GR" sz="1600" spc="-1" strike="noStrike">
                <a:solidFill>
                  <a:srgbClr val="002060"/>
                </a:solidFill>
                <a:latin typeface="Arial"/>
              </a:rPr>
              <a:t>: Πιστοποιημένη Κατάρτιση στις Εξαγωγές - Σήμα Κατατεθέν στην Ε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2060"/>
                </a:solidFill>
                <a:latin typeface="Arial"/>
              </a:rPr>
              <a:t>5. Βελτίωση των υποδομών που σχετίζονται με τις εξαγωγέ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09:42:01Z</dcterms:created>
  <dc:creator>ΣΕΒΕ</dc:creator>
  <dc:description/>
  <dc:language>en-US</dc:language>
  <cp:lastModifiedBy>Marinos Tsiagkarakis</cp:lastModifiedBy>
  <dcterms:modified xsi:type="dcterms:W3CDTF">2014-09-17T14:15:07Z</dcterms:modified>
  <cp:revision>252</cp:revision>
  <dc:subject/>
  <dc:title>Slide 1</dc:title>
</cp:coreProperties>
</file>